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FC4-3D64-45E0-A45D-C2AC77DA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A41-BDAA-4009-876E-957F04AC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78C-85D4-489C-B671-133C3505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9BD-F47E-4D47-8DD7-EB6F2B7E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C3E-668B-4832-88F1-6DFF25BC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9D5-5CCE-4696-A462-622E970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368-BC15-4EB9-92BB-12D421DB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7C1-265D-48B1-AD5C-C37DBEC7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9E2-7E14-4ECE-8FD2-1608BC8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283-2F22-444A-B300-DBE27D6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A76-42EA-403F-8943-E030D3B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985-7AB0-4560-9D46-C3A33881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230995-880F-4F6B-976A-98708432419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52880" y="4210200"/>
            <a:ext cx="2467080" cy="22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22399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85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Is evolution still happ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00400"/>
            <a:ext cx="670572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Antibiotic resistant bacter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secticide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447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Can you think of any examp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How do we k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Are acquired characteristics heri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229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22924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Why is evolution such a controversial top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atural selection happens when individuals of a population have differing characteristics caused by their genes (heri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fferences between individuals mean that some individuals are better adapted to their environment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371680"/>
            <a:ext cx="784872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ecause of differences in their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s are made up of DNA and are found in every cell of you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he genetic code is a set of instructions for making an entire organism with each gene coding for a specific protein.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808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</a:rPr>
              <a:t>Why do individuals of the same species have variations in their character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Where does variation in the genes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cells divide or gametes are formed the DNA is replicated (cop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imes errors occur in the copying called mutations. Mutations are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mutations change the code for making an organis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time this has no effect or a negative effect on the organisms survival ch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sometimes these mutations can be bene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</a:rPr>
              <a:t>What will happen to the survival chances of better adapted individu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58128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More likely to survive and have more offspring than less well adapted individu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What effect does this have on the gene poo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86000"/>
            <a:ext cx="6934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When organisms reproduce they pass on their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ganisms with beneficial characteristics are more likely to pass on their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frequency of the genes that cause these beneficial characteristics will increase from generation 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arwin’s fi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5334120" cy="4124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1219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se finches are found on different islands of the Gala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1752480"/>
            <a:ext cx="2362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ow are they simi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ow are they diffe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arwin’s fi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572000" cy="353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219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1752480"/>
            <a:ext cx="3048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ilar because they share a common ances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ferent because of differing selection pressures on different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93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re are at least 13 different species of finch found in the Gala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ample of natural selection leading to speciation. Can no longer interb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Is evolution just a theory? What evidence is there to support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343400"/>
            <a:ext cx="3657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286160" cy="317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98108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sil record provides evidence for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omplete needs certain conditions to delay decay e.g. low temperature, low oxygen, highly acidic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ften only hard parts e.g. skeleton are well p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2:03:26Z</dcterms:created>
  <dc:creator>Virginia Lound</dc:creator>
  <dc:description/>
  <dc:language>en-US</dc:language>
  <cp:lastModifiedBy>Virginia Lound</cp:lastModifiedBy>
  <dcterms:modified xsi:type="dcterms:W3CDTF">2012-11-04T14:09:27Z</dcterms:modified>
  <cp:revision>2</cp:revision>
  <dc:subject/>
  <dc:title>Evolution by natural selection</dc:title>
</cp:coreProperties>
</file>